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65B24-4F44-4C08-997A-72AB889E5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F790B-8847-450F-A99A-240DEC594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E272C-5C2F-4079-B63D-548C62C8F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81CB9-4C46-4D5E-A53A-37E01F4E6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441C1-06D2-4692-BC22-D1E424CE8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3347F-EE9F-46C7-94FB-C03B77777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BF825-DA2E-4B08-A162-E8AC35D6B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52F15-A3E8-4D7B-B870-187EED92E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DCCE2-E847-407B-BF9D-DE49B8912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1F2EB-E52A-48BA-89EB-C99C98161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3F424-C910-44F5-8542-85DC4EB06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7CE38-BC9A-495B-A24E-6C872257A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38323-9BFA-432B-8E71-6B7E86421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24357-F69F-42CE-A2C0-FBCD3CB90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E14F3-0551-4E40-B691-D7F0AE0E1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2E6E8-4CA8-4DB3-8BC9-124C0484F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88C0C-D0CE-4A94-9F8E-567984D66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44FE9-B79B-40D4-AA48-A82D24838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F7DE2-B51D-4900-AF12-3E7DBD245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E52F2-78E1-46D3-AD73-F121E8D61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198C4-E1C8-49C3-A71F-38DB6F61B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23B1D-17C2-4C1F-97C4-B204FC661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69FF3-D9AA-4174-A1F9-D18D89CE9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0E70C-FDE6-4875-888E-4A7FAAE97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1AEDA-CA68-4DE4-B8B8-4295274B0BB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C9292-7362-4B05-ADB0-24093985B28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The 4 Purposes of Governmen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n Introducti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urposes of Governmen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aintain social order: avoid/resolve conflicts between people/groups through laws &amp; court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rovide public services: oversee health/safety issues that individuals can’t do themselv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rovide national security: protect from outside threats, oversee relations with other countri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ake economic decisions: provide national currency, avoid class conflict, attempt economic growth, create tax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Maintain Social Order: avoid/resolve conflicts in society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61" name="Picture 9" descr="police"/>
          <p:cNvPicPr/>
          <p:nvPr/>
        </p:nvPicPr>
        <p:blipFill>
          <a:blip r:embed="rId1"/>
          <a:stretch/>
        </p:blipFill>
        <p:spPr>
          <a:xfrm>
            <a:off x="990720" y="2438280"/>
            <a:ext cx="2895480" cy="259092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0" descr="polk_county_court_house"/>
          <p:cNvPicPr/>
          <p:nvPr/>
        </p:nvPicPr>
        <p:blipFill>
          <a:blip r:embed="rId2"/>
          <a:stretch/>
        </p:blipFill>
        <p:spPr>
          <a:xfrm>
            <a:off x="5000760" y="2260440"/>
            <a:ext cx="3333600" cy="321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Provide public services: oversee health/safety issues that can’t be dealt with individually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64" name="Picture 7" descr="garbage"/>
          <p:cNvPicPr/>
          <p:nvPr/>
        </p:nvPicPr>
        <p:blipFill>
          <a:blip r:embed="rId1"/>
          <a:stretch/>
        </p:blipFill>
        <p:spPr>
          <a:xfrm>
            <a:off x="457200" y="2354400"/>
            <a:ext cx="4038480" cy="30225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new-health-care-bill-facts-241x300"/>
          <p:cNvPicPr/>
          <p:nvPr/>
        </p:nvPicPr>
        <p:blipFill>
          <a:blip r:embed="rId2"/>
          <a:stretch/>
        </p:blipFill>
        <p:spPr>
          <a:xfrm>
            <a:off x="5519880" y="2436840"/>
            <a:ext cx="229536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Provide national security: protect from outside forces, deal with other countrie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67" name="Picture 7" descr="airportscreening"/>
          <p:cNvPicPr/>
          <p:nvPr/>
        </p:nvPicPr>
        <p:blipFill>
          <a:blip r:embed="rId1"/>
          <a:stretch/>
        </p:blipFill>
        <p:spPr>
          <a:xfrm>
            <a:off x="457200" y="1905120"/>
            <a:ext cx="4038480" cy="391932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8" descr="US_Army_Logo"/>
          <p:cNvPicPr/>
          <p:nvPr/>
        </p:nvPicPr>
        <p:blipFill>
          <a:blip r:embed="rId2"/>
          <a:stretch/>
        </p:blipFill>
        <p:spPr>
          <a:xfrm>
            <a:off x="5105520" y="1905120"/>
            <a:ext cx="3333600" cy="44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Make economic decisions: provide currency, avoid class conflict, economic growth, taxe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70" name="Picture 6" descr="federalreserve"/>
          <p:cNvPicPr/>
          <p:nvPr/>
        </p:nvPicPr>
        <p:blipFill>
          <a:blip r:embed="rId1"/>
          <a:stretch/>
        </p:blipFill>
        <p:spPr>
          <a:xfrm>
            <a:off x="1047600" y="2436840"/>
            <a:ext cx="2857680" cy="285732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7" descr="budget"/>
          <p:cNvPicPr/>
          <p:nvPr/>
        </p:nvPicPr>
        <p:blipFill>
          <a:blip r:embed="rId2"/>
          <a:stretch/>
        </p:blipFill>
        <p:spPr>
          <a:xfrm>
            <a:off x="4648320" y="2625840"/>
            <a:ext cx="4038480" cy="247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Your Assignmen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rovide an example of local, state, or federal government carrying out each of the 4 purposes of government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r each example, write a short explanation of why you chose that example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2T12:29:58Z</dcterms:created>
  <dc:creator>L-Net</dc:creator>
  <dc:description/>
  <dc:language>en-US</dc:language>
  <cp:lastModifiedBy>Danielson, Jason</cp:lastModifiedBy>
  <dcterms:modified xsi:type="dcterms:W3CDTF">2011-08-29T17:27:38Z</dcterms:modified>
  <cp:revision>8</cp:revision>
  <dc:subject/>
  <dc:title>Principles of Government</dc:title>
</cp:coreProperties>
</file>